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731-D31F-4E0E-BAB9-D0297BD9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9B7-9BBC-41F3-A325-8B6041B9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557-A6E1-4C10-8B45-897B175C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AAC-52F8-4C03-ACEB-A1C582BA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9E6-AA3E-4509-B2B1-FAEADBA1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B3B-E0EF-4E8F-8492-D2EBB11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35B-D384-474B-8542-D1CD63BF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8F9-DAA2-41B6-AEB2-B8140365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8EF-1D46-40D6-BE64-5130701B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64B-DC60-4CF5-AA23-A0E26353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D14-1B05-4023-B8A9-E0C8E461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9FA-56F5-47AC-AA17-C451FFAD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035A-879B-4E8F-81B9-7EB7ACBB4E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217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79640"/>
            <a:ext cx="795492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738360" y="2494080"/>
            <a:ext cx="2889000" cy="6458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2"/>
          <p:cNvSpPr/>
          <p:nvPr/>
        </p:nvSpPr>
        <p:spPr>
          <a:xfrm>
            <a:off x="1763640" y="3429000"/>
            <a:ext cx="1638360" cy="1062000"/>
          </a:xfrm>
          <a:prstGeom prst="line">
            <a:avLst/>
          </a:prstGeom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6"/>
          <p:cNvSpPr/>
          <p:nvPr/>
        </p:nvSpPr>
        <p:spPr>
          <a:xfrm>
            <a:off x="1744560" y="3402000"/>
            <a:ext cx="73080" cy="7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3403440" y="4468680"/>
            <a:ext cx="71640" cy="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2332080" y="37846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1403280" y="2970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532320" y="42382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2449440" y="3418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944640" y="4979880"/>
            <a:ext cx="42498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950760" y="3365640"/>
            <a:ext cx="4249800" cy="12794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841320" y="2266920"/>
            <a:ext cx="2127240" cy="463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444680" y="2730600"/>
            <a:ext cx="1749240" cy="6159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944640" y="1085760"/>
            <a:ext cx="17794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963720" y="4711680"/>
            <a:ext cx="6699240" cy="128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938160" y="5913360"/>
            <a:ext cx="4249800" cy="676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3"/>
          <p:cNvSpPr/>
          <p:nvPr/>
        </p:nvSpPr>
        <p:spPr>
          <a:xfrm>
            <a:off x="6205680" y="3400560"/>
            <a:ext cx="2466720" cy="100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04a7b"/>
                </a:solidFill>
                <a:latin typeface="Calibri"/>
              </a:rPr>
              <a:t>There are other methods that you could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6:51Z</dcterms:modified>
  <cp:revision>110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